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6"/>
          <p:cNvGrpSpPr/>
          <p:nvPr/>
        </p:nvGrpSpPr>
        <p:grpSpPr>
          <a:xfrm>
            <a:off x="304920" y="838080"/>
            <a:ext cx="8533800" cy="152280"/>
            <a:chOff x="304920" y="838080"/>
            <a:chExt cx="8533800" cy="152280"/>
          </a:xfrm>
        </p:grpSpPr>
        <p:sp>
          <p:nvSpPr>
            <p:cNvPr id="3" name="Rectangle 17"/>
            <p:cNvSpPr/>
            <p:nvPr/>
          </p:nvSpPr>
          <p:spPr>
            <a:xfrm>
              <a:off x="304920" y="838080"/>
              <a:ext cx="8533800" cy="7488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8"/>
            <p:cNvSpPr/>
            <p:nvPr/>
          </p:nvSpPr>
          <p:spPr>
            <a:xfrm>
              <a:off x="304920" y="952200"/>
              <a:ext cx="853380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9"/>
          <p:cNvGrpSpPr/>
          <p:nvPr/>
        </p:nvGrpSpPr>
        <p:grpSpPr>
          <a:xfrm>
            <a:off x="380880" y="6147000"/>
            <a:ext cx="8381880" cy="558720"/>
            <a:chOff x="380880" y="6147000"/>
            <a:chExt cx="8381880" cy="558720"/>
          </a:xfrm>
        </p:grpSpPr>
        <p:sp>
          <p:nvSpPr>
            <p:cNvPr id="6" name="Rectangle 20"/>
            <p:cNvSpPr/>
            <p:nvPr/>
          </p:nvSpPr>
          <p:spPr>
            <a:xfrm>
              <a:off x="380880" y="6400800"/>
              <a:ext cx="83818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380880" y="6147000"/>
              <a:ext cx="8364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© Tan,Steinbach, Kumar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roduction to Data Mining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4/18/2004               </a:t>
              </a:r>
              <a:fld id="{651B8FD3-F83E-45FF-9BD0-C783FEA01B72}" type="slidenum"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Min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80880" y="1973160"/>
            <a:ext cx="822960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Notes for Chapter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 M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, Steinbach, Kum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304920" y="990720"/>
            <a:ext cx="8533800" cy="152280"/>
            <a:chOff x="304920" y="990720"/>
            <a:chExt cx="8533800" cy="152280"/>
          </a:xfrm>
        </p:grpSpPr>
        <p:sp>
          <p:nvSpPr>
            <p:cNvPr id="47" name="Rectangle 5"/>
            <p:cNvSpPr/>
            <p:nvPr/>
          </p:nvSpPr>
          <p:spPr>
            <a:xfrm>
              <a:off x="304920" y="990720"/>
              <a:ext cx="8533800" cy="7488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304920" y="1104840"/>
              <a:ext cx="853380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7"/>
          <p:cNvGrpSpPr/>
          <p:nvPr/>
        </p:nvGrpSpPr>
        <p:grpSpPr>
          <a:xfrm>
            <a:off x="380880" y="6147000"/>
            <a:ext cx="8381880" cy="558720"/>
            <a:chOff x="380880" y="6147000"/>
            <a:chExt cx="8381880" cy="558720"/>
          </a:xfrm>
        </p:grpSpPr>
        <p:sp>
          <p:nvSpPr>
            <p:cNvPr id="50" name="Rectangle 8"/>
            <p:cNvSpPr/>
            <p:nvPr/>
          </p:nvSpPr>
          <p:spPr>
            <a:xfrm>
              <a:off x="380880" y="6400800"/>
              <a:ext cx="83818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380880" y="6147000"/>
              <a:ext cx="8364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© Tan,Steinbach, Kumar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roduction to Data Mining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4/18/2004               </a:t>
              </a:r>
              <a:fld id="{AE1AEF73-900A-451F-8E98-36B47645C98C}" type="slidenum"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aphical Approach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plot (1-D), Scatter plot (2-D), Spin plot (3-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boxplot"/>
          <p:cNvPicPr/>
          <p:nvPr/>
        </p:nvPicPr>
        <p:blipFill>
          <a:blip r:embed="rId1"/>
          <a:stretch/>
        </p:blipFill>
        <p:spPr>
          <a:xfrm>
            <a:off x="1073160" y="3656160"/>
            <a:ext cx="2576520" cy="2496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629240" y="2281320"/>
            <a:ext cx="351144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tistical Approach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 parametric model describing the distribution of the data (e.g., normal distribu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 statistical test that depend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distribution (e.g., mean, vari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xpected outlier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 li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3733920" cy="220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ubbs’ Te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 outliers in univari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data comes from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one outlier at a time, remove the outlier, and 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e is no outlier 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e is at least one out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bbs’ 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72000" y="3962520"/>
                <a:ext cx="22860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4876920"/>
                <a:ext cx="38862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(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(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89" name="Immagine 5" descr=""/>
          <p:cNvPicPr/>
          <p:nvPr/>
        </p:nvPicPr>
        <p:blipFill>
          <a:blip r:embed="rId1"/>
          <a:stretch/>
        </p:blipFill>
        <p:spPr>
          <a:xfrm>
            <a:off x="609480" y="6006960"/>
            <a:ext cx="76327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mitations of Statistical Approach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tests are for a single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case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distribution may not be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dimensional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 may be difficult to estimate the tru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94" name="Immagine 3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077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97" name="Immagine 4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077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100" name="Immagine 5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8077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4" descr=""/>
          <p:cNvPicPr/>
          <p:nvPr/>
        </p:nvPicPr>
        <p:blipFill>
          <a:blip r:embed="rId2"/>
          <a:stretch/>
        </p:blipFill>
        <p:spPr>
          <a:xfrm>
            <a:off x="0" y="203040"/>
            <a:ext cx="829296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ance-based Approach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presented as a vector of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jor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est-neighbor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arest-Neighbor Based Approa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distance between every pair of data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various ways to define outl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oints for which the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fewer th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ighbor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within a dista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 n data points whose distance to the kth nea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is grea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p n data poi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se average distance to the k nearest neighbo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ea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2803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/Outlier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anomalies/outli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data points that are considerably different than the remainder of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malies are usually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als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3" descr=""/>
          <p:cNvPicPr/>
          <p:nvPr/>
        </p:nvPicPr>
        <p:blipFill>
          <a:blip r:embed="rId2"/>
          <a:stretch/>
        </p:blipFill>
        <p:spPr>
          <a:xfrm>
            <a:off x="254160" y="266760"/>
            <a:ext cx="8635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113" name="Immagine 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721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116" name="Immagine 5" descr=""/>
          <p:cNvPicPr/>
          <p:nvPr/>
        </p:nvPicPr>
        <p:blipFill>
          <a:blip r:embed="rId2"/>
          <a:stretch/>
        </p:blipFill>
        <p:spPr>
          <a:xfrm>
            <a:off x="184320" y="412920"/>
            <a:ext cx="8775360" cy="60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utliers in Lower Dimensional Proj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gh-dimensional space, data is sparse and notion of proximity becomes meaning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int is an almost equally good outlier from the perspective of proximity-base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-dimensional proj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int is an outlier if in some lower dimensional projection, it is present in a local region of abnormally low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nsity-based: LOF approa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oint, compute the density of its local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local outlier factor (LOF) of a samp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average of the ratios of the density of samp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density of its nearest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ers are points with largest L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533520" y="3322800"/>
            <a:ext cx="3504960" cy="3001680"/>
            <a:chOff x="533520" y="3322800"/>
            <a:chExt cx="3504960" cy="3001680"/>
          </a:xfrm>
        </p:grpSpPr>
        <p:pic>
          <p:nvPicPr>
            <p:cNvPr id="122" name="Picture 5" descr=""/>
            <p:cNvPicPr/>
            <p:nvPr/>
          </p:nvPicPr>
          <p:blipFill>
            <a:blip r:embed="rId1"/>
            <a:stretch/>
          </p:blipFill>
          <p:spPr>
            <a:xfrm>
              <a:off x="533520" y="3322800"/>
              <a:ext cx="3504960" cy="30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6"/>
            <p:cNvSpPr/>
            <p:nvPr/>
          </p:nvSpPr>
          <p:spPr>
            <a:xfrm>
              <a:off x="1374480" y="5418720"/>
              <a:ext cx="302400" cy="49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000"/>
                  </a:solidFill>
                  <a:latin typeface="Times New Roman"/>
                </a:rPr>
                <a:t>  </a:t>
              </a:r>
              <a:r>
                <a:rPr b="1" i="1" lang="en-US" sz="1400" spc="-1" strike="noStrike">
                  <a:solidFill>
                    <a:srgbClr val="00c000"/>
                  </a:solidFill>
                  <a:latin typeface="Times New Roman"/>
                </a:rPr>
                <a:t>p</a:t>
              </a:r>
              <a:r>
                <a:rPr b="1" i="1" lang="en-US" sz="1400" spc="-1" strike="noStrike" baseline="-25000">
                  <a:solidFill>
                    <a:srgbClr val="00c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000"/>
                  </a:solidFill>
                  <a:latin typeface="Symbol"/>
                  <a:ea typeface="Symbol"/>
                </a:rPr>
                <a:t>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2505960" y="5640120"/>
              <a:ext cx="441360" cy="55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000"/>
                  </a:solidFill>
                  <a:latin typeface="Times New Roman"/>
                </a:rPr>
                <a:t>  </a:t>
              </a:r>
              <a:r>
                <a:rPr b="1" i="1" lang="en-US" sz="1400" spc="-1" strike="noStrike">
                  <a:solidFill>
                    <a:srgbClr val="00c000"/>
                  </a:solidFill>
                  <a:latin typeface="Times New Roman"/>
                </a:rPr>
                <a:t>p</a:t>
              </a:r>
              <a:r>
                <a:rPr b="1" i="1" lang="en-US" sz="1400" spc="-1" strike="noStrike" baseline="-25000">
                  <a:solidFill>
                    <a:srgbClr val="00c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000"/>
                  </a:solidFill>
                  <a:latin typeface="Symbol"/>
                  <a:ea typeface="Symbol"/>
                </a:rPr>
                <a:t>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8"/>
          <p:cNvSpPr/>
          <p:nvPr/>
        </p:nvSpPr>
        <p:spPr>
          <a:xfrm>
            <a:off x="5181480" y="4114800"/>
            <a:ext cx="33530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NN approach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considered as outlier, while LOF approach find bot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outl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lustering-Base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49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luster the data into groups of different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hoose points in small cluster as candidate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mpute the distance between candidate points and non-candidate clus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f candidate points are far from all other non-candidate points, they are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181480" y="1954080"/>
            <a:ext cx="3733920" cy="3075120"/>
            <a:chOff x="5181480" y="1954080"/>
            <a:chExt cx="3733920" cy="3075120"/>
          </a:xfrm>
        </p:grpSpPr>
        <p:pic>
          <p:nvPicPr>
            <p:cNvPr id="129" name="Picture 5" descr=""/>
            <p:cNvPicPr/>
            <p:nvPr/>
          </p:nvPicPr>
          <p:blipFill>
            <a:blip r:embed="rId1"/>
            <a:stretch/>
          </p:blipFill>
          <p:spPr>
            <a:xfrm>
              <a:off x="5181480" y="1954080"/>
              <a:ext cx="3733920" cy="30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Oval 6"/>
            <p:cNvSpPr/>
            <p:nvPr/>
          </p:nvSpPr>
          <p:spPr>
            <a:xfrm>
              <a:off x="5638680" y="3192480"/>
              <a:ext cx="177840" cy="1620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>
              <a:off x="7543800" y="3106800"/>
              <a:ext cx="177840" cy="1620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"/>
            <p:cNvSpPr/>
            <p:nvPr/>
          </p:nvSpPr>
          <p:spPr>
            <a:xfrm>
              <a:off x="8610480" y="4259160"/>
              <a:ext cx="177840" cy="16200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6375240" y="4411800"/>
              <a:ext cx="177840" cy="1616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>
              <a:off x="5384880" y="2811600"/>
              <a:ext cx="177840" cy="1616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 flipH="1">
              <a:off x="6705720" y="3192480"/>
              <a:ext cx="914400" cy="15228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7620120" y="3192480"/>
              <a:ext cx="75960" cy="121932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 flipV="1">
              <a:off x="7620120" y="2582640"/>
              <a:ext cx="609480" cy="60948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7620120" y="3192480"/>
              <a:ext cx="1066680" cy="114300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H="1">
              <a:off x="5943240" y="3192480"/>
              <a:ext cx="1676520" cy="533520"/>
            </a:xfrm>
            <a:prstGeom prst="line">
              <a:avLst/>
            </a:prstGeom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2803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/Outlier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s of Anomaly/Outlier Detec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database D, find all the data poi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scores grea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so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shol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database D, find all the data poi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 hav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-n largest anomaly scores 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/Outlier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card fraud detec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 fraud detec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trusion detection, faul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ce of Anomaly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1120" y="1142640"/>
            <a:ext cx="4237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zone Depletio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85 three researchers (Farman, Gardinar and Shanklin) were puzzled by data gathered by the British Antarctic Survey showing that ozone levels for Antarctica had dropped 10% below norm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 the Nimbus 7 satellite, which had instruments aboard for recording ozone levels, not record similarly low ozone concentration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zone concentrations recorded by the satellite were so low they were being treated as outliers by a computer program and discar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724280" y="5257800"/>
            <a:ext cx="4343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s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http://exploringdata.cqu.edu.au/ozone.html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http://www.epa.gov/ozone/science/hole/size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olesize"/>
          <p:cNvPicPr/>
          <p:nvPr/>
        </p:nvPicPr>
        <p:blipFill>
          <a:blip r:embed="rId1"/>
          <a:stretch/>
        </p:blipFill>
        <p:spPr>
          <a:xfrm>
            <a:off x="5241960" y="1371600"/>
            <a:ext cx="31161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vert="eaVer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magine 6" descr=""/>
          <p:cNvPicPr/>
          <p:nvPr/>
        </p:nvPicPr>
        <p:blipFill>
          <a:blip r:embed="rId1"/>
          <a:stretch/>
        </p:blipFill>
        <p:spPr>
          <a:xfrm>
            <a:off x="139680" y="343080"/>
            <a:ext cx="8864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 Det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outliers are there in th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is unsuper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can be quite challenging (just like for clust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needle in a hay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considerab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“normal” observ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abnormal” observ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utliers/anomalies)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772160" y="2590920"/>
            <a:ext cx="437184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omaly Detection Schem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580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profi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“normal”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 can be patterns or summary statistics for the overall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normal” profile to detect anoma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malies are observations whose characteristic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 significantly from the normal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anomaly dete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&amp; Statistical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5334120" y="4114800"/>
            <a:ext cx="177840" cy="162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7467480" y="3809880"/>
            <a:ext cx="38124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8839080" y="5334120"/>
            <a:ext cx="177840" cy="16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6172200" y="5486400"/>
            <a:ext cx="177840" cy="162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029200" y="3581280"/>
            <a:ext cx="177840" cy="162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10760" y="1142640"/>
            <a:ext cx="8318520" cy="51814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3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8492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8:18:30Z</dcterms:created>
  <dc:creator>Computations</dc:creator>
  <dc:description/>
  <cp:keywords/>
  <dc:language>en-US</dc:language>
  <cp:lastModifiedBy>Dino Pedreschi</cp:lastModifiedBy>
  <cp:lastPrinted>2001-08-28T17:59:37Z</cp:lastPrinted>
  <dcterms:modified xsi:type="dcterms:W3CDTF">2011-05-02T11:45:29Z</dcterms:modified>
  <cp:revision>507</cp:revision>
  <dc:subject/>
  <dc:title>Steven F. Ashby Center for Applied Scientific Computing  Month DD, 1997</dc:title>
</cp:coreProperties>
</file>